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D38-EC2F-487D-83A0-CB171880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4F1-A2E3-4476-BC3E-1D23D90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57F-0724-40F8-80ED-65C2077D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FDE-8864-4E0E-800E-CA054BD7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27D-4599-47F8-926F-96298B3A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AE0-291A-4397-A46D-54CB600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3A7-18D3-42B4-8759-2C6E29EA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54B-E185-4A73-B944-A9271F5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3F8-885D-44BB-8356-AB46740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005-8A2D-4EC0-B1EC-4C7396A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89B-C93E-43B2-8772-7E66DA0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EF7-3801-43B6-93A9-1B57AD2C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106-3936-44FD-9BC7-22592C69D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, Dreams, and Body Rhyth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eep Depri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y We Slee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control center in the 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itors changes in light or dark in the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s levels of hormones in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lair-Broeker_24UN03"/>
          <p:cNvPicPr/>
          <p:nvPr/>
        </p:nvPicPr>
        <p:blipFill>
          <a:blip r:embed="rId1"/>
          <a:stretch/>
        </p:blipFill>
        <p:spPr>
          <a:xfrm>
            <a:off x="2514600" y="365760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lato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mone that helps regulate daily biological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ed to the sleep-wak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latonin level increases during the night and decreases with exposure to morning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melatonin levels can cause insom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primary reas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rvation: keep us protected from the dangers of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oration: recuperate from the wear and tear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Stages, REM, and Dreaming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tages of Slee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encephalograph (EE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hine that amplifies and records waves of electrical activity that sweep across the brain’s su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des placed on the scalp measure the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lair-Broeker_24UN04"/>
          <p:cNvPicPr/>
          <p:nvPr/>
        </p:nvPicPr>
        <p:blipFill>
          <a:blip r:embed="rId1"/>
          <a:stretch/>
        </p:blipFill>
        <p:spPr>
          <a:xfrm>
            <a:off x="4952880" y="2027160"/>
            <a:ext cx="39531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encephalograph (EE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des are placed on the person’s scalp to measure the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d as a means to measure the stages of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lair-Broeker_24UN04"/>
          <p:cNvPicPr/>
          <p:nvPr/>
        </p:nvPicPr>
        <p:blipFill>
          <a:blip r:embed="rId1"/>
          <a:stretch/>
        </p:blipFill>
        <p:spPr>
          <a:xfrm>
            <a:off x="4952880" y="1874880"/>
            <a:ext cx="39531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10335"/>
          <p:cNvPicPr/>
          <p:nvPr/>
        </p:nvPicPr>
        <p:blipFill>
          <a:blip r:embed="rId1"/>
          <a:srcRect l="35002" t="0" r="0" b="0"/>
          <a:stretch/>
        </p:blipFill>
        <p:spPr>
          <a:xfrm>
            <a:off x="3352680" y="1600200"/>
            <a:ext cx="55990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0335"/>
          <p:cNvPicPr/>
          <p:nvPr/>
        </p:nvPicPr>
        <p:blipFill>
          <a:blip r:embed="rId2"/>
          <a:srcRect l="0" t="0" r="65003" b="49240"/>
          <a:stretch/>
        </p:blipFill>
        <p:spPr>
          <a:xfrm>
            <a:off x="152280" y="160020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thing is slow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waves become irregul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easy to wake the person, who will insist they are not aslee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rely lasts longer than 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ciou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wareness of yourself and your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8" descr="Picture45e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icture45f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2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wave cycle sl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ime through stage 2 last about 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lair-Broeker_24UN01"/>
          <p:cNvPicPr/>
          <p:nvPr/>
        </p:nvPicPr>
        <p:blipFill>
          <a:blip r:embed="rId1"/>
          <a:stretch/>
        </p:blipFill>
        <p:spPr>
          <a:xfrm>
            <a:off x="3733920" y="3200400"/>
            <a:ext cx="4800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cture45g"/>
          <p:cNvPicPr/>
          <p:nvPr/>
        </p:nvPicPr>
        <p:blipFill>
          <a:blip r:embed="rId1"/>
          <a:stretch/>
        </p:blipFill>
        <p:spPr>
          <a:xfrm>
            <a:off x="2362320" y="1219320"/>
            <a:ext cx="4444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3 and 4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 wave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ime through stage 4 is about 30 minutes and is where one gets rejuvenate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icture45h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28" descr="Picture45i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Stages, REM, and Dreaming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M Slee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REM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ges 1 - 4 considered N-REM (non-REM slee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dy Rhyth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pid eye movement (REM Sleep) as eyes move quickly back and f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dreaming occurs in 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ed “paradoxical slee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 coined by William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 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icture45j"/>
          <p:cNvPicPr/>
          <p:nvPr/>
        </p:nvPicPr>
        <p:blipFill>
          <a:blip r:embed="rId1"/>
          <a:stretch/>
        </p:blipFill>
        <p:spPr>
          <a:xfrm>
            <a:off x="2362320" y="1219320"/>
            <a:ext cx="444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doxical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REM sleep brain wave patterns are similar to when a person is aw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lse and breathing quick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 sleep is sometimes called paradoxical sleep as one’s physiology is close to that of being awake but the brainstem blocks all muscle m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Night’s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29" descr=""/>
          <p:cNvPicPr/>
          <p:nvPr/>
        </p:nvPicPr>
        <p:blipFill>
          <a:blip r:embed="rId1"/>
          <a:stretch/>
        </p:blipFill>
        <p:spPr>
          <a:xfrm>
            <a:off x="1371600" y="1246320"/>
            <a:ext cx="61722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4/REM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29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5623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Changes through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30" descr="Blair-Broeker_fig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Stages, REM, and Dreaming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y Do We Drea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groups and identify the many theories about the function of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ame up with the the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heories similar in any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y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-Processi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serve an important memory- related function by sorting and sifting through the day’s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suggests REM sleep helps memory stor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ical Functio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ural activity during REM sleep provides periodic stimulation of the b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odic physiological fluc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affect physiological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l into three main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adian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ltradian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radian Rhy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-Synthes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are the mind’s attempt to make sense of random neural firings in the brain as one slee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gnitive Developmen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part of the matu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eams reflect our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lection of normal cogni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Disorders and Sleep Proble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om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urring problems falling asleep or staying a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ing pills tend to inhibit or suppress REM sleep; worsen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 suppresses REM sleep; also worsens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es show most people overestimate how long it took them to get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Ap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leep disorder characterized by temporary cessations of breathing during sleep and consequent momentary reawakening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nd to be loud snor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tinuous Positive Airway Pressure mach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28" descr="Blair-Broeker_24UN08"/>
          <p:cNvPicPr/>
          <p:nvPr/>
        </p:nvPicPr>
        <p:blipFill>
          <a:blip r:embed="rId1"/>
          <a:stretch/>
        </p:blipFill>
        <p:spPr>
          <a:xfrm>
            <a:off x="2362320" y="3886200"/>
            <a:ext cx="41907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colep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disorder characterized by uncontrollable sleep att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 may lapse directly into 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rvous system getting aroused tends to trigger the sleep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nambu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name for sleepw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s in the deep stages of N-REM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 can walk or talk and is able to 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rely has any memory of the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Blair-Broeker_24UN09"/>
          <p:cNvPicPr/>
          <p:nvPr/>
        </p:nvPicPr>
        <p:blipFill>
          <a:blip r:embed="rId1"/>
          <a:stretch/>
        </p:blipFill>
        <p:spPr>
          <a:xfrm>
            <a:off x="2743200" y="4038480"/>
            <a:ext cx="37339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ght T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disorder characterized by high arousal and appearance of being terr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like nightm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pens during stage 4 sleep; mostly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ren seldom remember the ev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leep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uxism – teeth gr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uresis – bed w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oclonus – sudden jerk of a body part occurring during stage 1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has occasional episodes of myoclon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adian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 rhythms that occur approximately every 24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leep-wake cycle and  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“biological cloc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ltradian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 rhythms that occur more than once each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tages of sleep throughout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dian Rhy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 rhythms that occur once a month or once a s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Women’s menstrual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eep and Sleep Defic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4: Sleep, Dreams, and Body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p Deprivation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s efficiency of immune system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stress hormone cortis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fety and accident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ibutes to hypertension, impaired concentration, irritability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 sleep depravation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0-19T16:05:29Z</dcterms:modified>
  <cp:revision>69</cp:revision>
  <dc:subject/>
  <dc:title>Psychology</dc:title>
</cp:coreProperties>
</file>